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11B1-0EE3-4139-9A31-F40915D5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8D1-F279-4AF2-BC31-7B49B3508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15C-E814-46B8-B6CC-9216EDC22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321-2E02-4721-AB9B-823AA71A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A114-AB74-4D45-975A-3B6F1DA0C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555E-6157-4D9F-A0D1-569C25FD1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1E1E-6DA5-49F1-BE07-BFF4C6F4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4210-BE9F-4D09-9FC3-C4F8923BF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B43-925B-4AC6-A881-78F27B96D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DF4D-B768-44A0-8358-BC906E191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83ED-D7DA-404A-8095-8DFDDD7EC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95A5-6E29-481E-AA04-0A920637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2182-A7FF-498A-8147-DF2BB05C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6DA-8642-4984-9358-6520A768A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D30-A840-4FF6-80FD-A8B9505EB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5AED-71D6-47B2-AEE0-AEBB4A928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77C0-0D18-42AD-9439-A803BB047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0A9B-EFB7-4F64-AD93-0C688E7E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D4AB-1848-401E-A75E-CF572C289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3FD6-A3C8-4423-BD05-AC0399F5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BB9-094A-4CDE-A0B0-6B9918E9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E869-9394-4832-9A90-61563165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E172-7A83-4E06-93CB-3065A83B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CBB1-0C39-44C1-98DA-736B9ADB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922-3B7C-4A9C-8C6A-EEA8E58F1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3B0-780E-43A7-8795-236D7BB8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B8B-BF3A-4220-89B4-CA272EB2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0BB-233D-4F6F-B2D1-5F493E7F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736-C22F-4098-B786-9625F188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555-9A18-4D42-93B1-3CE6E4F9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2E4-3733-45B0-BAD4-D1B0D8F5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D8C-4ED0-475F-A247-B9A928A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62D-30B4-4FFF-A473-09C273D2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E12-22E4-4C48-926F-9FD7C156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B35-43F3-4C73-916D-6C5DE4C6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525-B953-4DF2-B504-4A78736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626-02D6-4E35-A630-15E18B8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31E7-A1F4-4D5B-BDF6-7D9986ABCF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zriq2.tripod.com/tafapic/index.album?i=0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over-vs-original.com/i-shot-the-sheriff/bob-marley-burnin.jpg&amp;imgrefurl=http://www.cover-vs-original.com/i-shot-the-sheriff/eric-clapton-bob-marley.html&amp;h=160&amp;w=160&amp;sz=11&amp;hl=en&amp;start=3&amp;um=1&amp;tbnid=34dBSEb4f2mkXM:&amp;tbnh=98&amp;tbnw=98&amp;prev=/images%3Fq%3Dbob%2Bmarley%2Bburnin%26svnum%3D10%26um%3D1%26hl%3Den%26sa%3DX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ostmodernis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im: to gain a basic conceptual understanding of postmoder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pply theories of postmodernism to Advanced production Course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- Fi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DVD%20-%20Romeo%20&amp;%20Juliet%20(Hollywood)"/>
          <p:cNvPicPr/>
          <p:nvPr/>
        </p:nvPicPr>
        <p:blipFill>
          <a:blip r:embed="rId1"/>
          <a:stretch/>
        </p:blipFill>
        <p:spPr>
          <a:xfrm>
            <a:off x="2843280" y="1916280"/>
            <a:ext cx="293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3- 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Ronaldo"/>
          <p:cNvPicPr/>
          <p:nvPr/>
        </p:nvPicPr>
        <p:blipFill>
          <a:blip r:embed="rId1"/>
          <a:stretch/>
        </p:blipFill>
        <p:spPr>
          <a:xfrm>
            <a:off x="1523880" y="2209680"/>
            <a:ext cx="632484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6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adonna –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‘the queen of reinvention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5" descr="69eeac19-2827-4fe8-b7dd-c37a16e0e664"/>
          <p:cNvPicPr/>
          <p:nvPr/>
        </p:nvPicPr>
        <p:blipFill>
          <a:blip r:embed="rId1"/>
          <a:stretch/>
        </p:blipFill>
        <p:spPr>
          <a:xfrm>
            <a:off x="7020000" y="2997360"/>
            <a:ext cx="1676160" cy="230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27" descr="18794334"/>
          <p:cNvPicPr/>
          <p:nvPr/>
        </p:nvPicPr>
        <p:blipFill>
          <a:blip r:embed="rId2"/>
          <a:stretch/>
        </p:blipFill>
        <p:spPr>
          <a:xfrm>
            <a:off x="611280" y="1125360"/>
            <a:ext cx="2103480" cy="266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Picture 29" descr="madonna_material_8"/>
          <p:cNvPicPr/>
          <p:nvPr/>
        </p:nvPicPr>
        <p:blipFill>
          <a:blip r:embed="rId3"/>
          <a:stretch/>
        </p:blipFill>
        <p:spPr>
          <a:xfrm>
            <a:off x="2916360" y="1628640"/>
            <a:ext cx="3744720" cy="315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Picture 31" descr="258227~Deborah-Harry-Posters"/>
          <p:cNvPicPr/>
          <p:nvPr/>
        </p:nvPicPr>
        <p:blipFill>
          <a:blip r:embed="rId4"/>
          <a:stretch/>
        </p:blipFill>
        <p:spPr>
          <a:xfrm>
            <a:off x="250920" y="3500280"/>
            <a:ext cx="1741320" cy="21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Picture 33" descr="gwen-stefani-sweet-escape"/>
          <p:cNvPicPr/>
          <p:nvPr/>
        </p:nvPicPr>
        <p:blipFill>
          <a:blip r:embed="rId5"/>
          <a:stretch/>
        </p:blipFill>
        <p:spPr>
          <a:xfrm>
            <a:off x="6804000" y="1197000"/>
            <a:ext cx="2016000" cy="151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4" name="Picture 35" descr="0102_kylie_minogue_a-thumb"/>
          <p:cNvPicPr/>
          <p:nvPr/>
        </p:nvPicPr>
        <p:blipFill>
          <a:blip r:embed="rId6"/>
          <a:stretch/>
        </p:blipFill>
        <p:spPr>
          <a:xfrm>
            <a:off x="5940360" y="4941720"/>
            <a:ext cx="1654200" cy="1654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Picture 37" descr="dietrich-marlene-photo-xxl-marlene-dietrich-6220459"/>
          <p:cNvPicPr/>
          <p:nvPr/>
        </p:nvPicPr>
        <p:blipFill>
          <a:blip r:embed="rId7"/>
          <a:stretch/>
        </p:blipFill>
        <p:spPr>
          <a:xfrm>
            <a:off x="1619280" y="4869000"/>
            <a:ext cx="1400040" cy="174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Text Box 38"/>
          <p:cNvSpPr/>
          <p:nvPr/>
        </p:nvSpPr>
        <p:spPr>
          <a:xfrm>
            <a:off x="2916360" y="98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se study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‘Material Gir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So what is postmodern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743200"/>
            <a:ext cx="777240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ltural theorist Jean Baudrillard and Ihab Hassan combined to come up with following 8 non-laws of postmodernis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gency FB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phasis of style over content or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ve against traditional large narratives that dictated our lives e.g.: religion and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stellar"/>
              </a:rPr>
              <a:t>Approp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ycling past styles and cultures in the form of ‘pastiche’ also known as ‘bricolog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orte"/>
              </a:rPr>
              <a:t>Playfu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us on useless decoration applied in an exaggerated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aettenschweiler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lurring of boundaries between high and low 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Eras Demi ITC"/>
              </a:rPr>
              <a:t>Intertext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one text/design cross references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hat is modern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lfaen"/>
              </a:rPr>
              <a:t>Modernism was a new way of thinking and perceiving the world at the turn of the Twentieth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lfaen"/>
              </a:rPr>
              <a:t>Modernism in the arts incorporated fine art and sculpture, design, literature and thea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lfaen"/>
              </a:rPr>
              <a:t>Modernist work was influenced by the modern world  and the dawning of a new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National Primary"/>
              </a:rPr>
              <a:t>Divers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ed cultural experi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oudy Stout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ntral to the interpretation of meaning. Each individual brings their own subjectiv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o how much do we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se Study:  analyse the opening sequence to Baz Lurhamnn’s version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‘Romeo and Juli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ok gain at Baudrillard and Hassan’s theories of postmodernism and see how many you can apply to the cl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DVD%20-%20Romeo%20&amp;%20Juliet%20(Hollywood)"/>
          <p:cNvPicPr/>
          <p:nvPr/>
        </p:nvPicPr>
        <p:blipFill>
          <a:blip r:embed="rId1"/>
          <a:stretch/>
        </p:blipFill>
        <p:spPr>
          <a:xfrm>
            <a:off x="1295280" y="3962520"/>
            <a:ext cx="1820880" cy="2590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VD%20-%20Romeo%20&amp;%20Juliet%20(Hollywood)"/>
          <p:cNvPicPr/>
          <p:nvPr/>
        </p:nvPicPr>
        <p:blipFill>
          <a:blip r:embed="rId2"/>
          <a:stretch/>
        </p:blipFill>
        <p:spPr>
          <a:xfrm>
            <a:off x="3886200" y="3962520"/>
            <a:ext cx="1790640" cy="254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VD%20-%20Romeo%20&amp;%20Juliet%20(Hollywood)"/>
          <p:cNvPicPr/>
          <p:nvPr/>
        </p:nvPicPr>
        <p:blipFill>
          <a:blip r:embed="rId3"/>
          <a:stretch/>
        </p:blipFill>
        <p:spPr>
          <a:xfrm>
            <a:off x="6400800" y="3962520"/>
            <a:ext cx="17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ets go back to our media text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3213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review: in your groups look again at the media texts you were given at the start of the lesson. Apply the 8 postmodern concepts – annotate on paper/white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your work in terms of postmoder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many of the postmodern concepts can you apply to you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rfac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intertextualit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diversit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Rejection of big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approp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some n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Languag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 is meaning constructed through the use of media language in one of your coursework production?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chnical asp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iotics and postmodern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re and narrative conven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odernist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le_chandail_jaune-dora_maar"/>
          <p:cNvPicPr/>
          <p:nvPr/>
        </p:nvPicPr>
        <p:blipFill>
          <a:blip r:embed="rId1"/>
          <a:stretch/>
        </p:blipFill>
        <p:spPr>
          <a:xfrm>
            <a:off x="1042920" y="2133720"/>
            <a:ext cx="2527200" cy="284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ersistence"/>
          <p:cNvPicPr/>
          <p:nvPr/>
        </p:nvPicPr>
        <p:blipFill>
          <a:blip r:embed="rId2"/>
          <a:stretch/>
        </p:blipFill>
        <p:spPr>
          <a:xfrm>
            <a:off x="4643280" y="2133720"/>
            <a:ext cx="3886200" cy="282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332000" y="5300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Cubism and Surrea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Modernist Architectur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Eiffel_Tower"/>
          <p:cNvPicPr/>
          <p:nvPr/>
        </p:nvPicPr>
        <p:blipFill>
          <a:blip r:embed="rId1"/>
          <a:stretch/>
        </p:blipFill>
        <p:spPr>
          <a:xfrm>
            <a:off x="2971800" y="1905120"/>
            <a:ext cx="2733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Modernist Literatur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joyce"/>
          <p:cNvPicPr/>
          <p:nvPr/>
        </p:nvPicPr>
        <p:blipFill>
          <a:blip r:embed="rId1"/>
          <a:stretch/>
        </p:blipFill>
        <p:spPr>
          <a:xfrm>
            <a:off x="1219320" y="1905120"/>
            <a:ext cx="3154320" cy="392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joyce"/>
          <p:cNvPicPr/>
          <p:nvPr/>
        </p:nvPicPr>
        <p:blipFill>
          <a:blip r:embed="rId2"/>
          <a:stretch/>
        </p:blipFill>
        <p:spPr>
          <a:xfrm>
            <a:off x="5486400" y="2743200"/>
            <a:ext cx="2492280" cy="2206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932360" y="551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ames Joyce’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‘Ulysse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wentieth Century Modernist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180px-Chaplin_The_Kid"/>
          <p:cNvPicPr/>
          <p:nvPr/>
        </p:nvPicPr>
        <p:blipFill>
          <a:blip r:embed="rId1"/>
          <a:stretch/>
        </p:blipFill>
        <p:spPr>
          <a:xfrm>
            <a:off x="762120" y="2286000"/>
            <a:ext cx="205740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an%20Ray%20-%20Ingres"/>
          <p:cNvPicPr/>
          <p:nvPr/>
        </p:nvPicPr>
        <p:blipFill>
          <a:blip r:embed="rId2"/>
          <a:stretch/>
        </p:blipFill>
        <p:spPr>
          <a:xfrm>
            <a:off x="3352680" y="2362320"/>
            <a:ext cx="2152800" cy="287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rmstrong"/>
          <p:cNvPicPr/>
          <p:nvPr/>
        </p:nvPicPr>
        <p:blipFill>
          <a:blip r:embed="rId3"/>
          <a:stretch/>
        </p:blipFill>
        <p:spPr>
          <a:xfrm>
            <a:off x="5934240" y="2286000"/>
            <a:ext cx="2219040" cy="3009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826920" y="5734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ilm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  Photography         Jaz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ockwell"/>
              </a:rPr>
              <a:t>Postmodernism for beginners…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Rockwell"/>
              </a:rPr>
              <a:t>…….a question of old versus ne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4330800"/>
            <a:ext cx="77724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1- 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godfat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133720"/>
            <a:ext cx="4495680" cy="320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fugees~~~~~_score~~~~_101b"/>
          <p:cNvPicPr/>
          <p:nvPr/>
        </p:nvPicPr>
        <p:blipFill>
          <a:blip r:embed="rId3"/>
          <a:stretch/>
        </p:blipFill>
        <p:spPr>
          <a:xfrm>
            <a:off x="5638680" y="2209680"/>
            <a:ext cx="30672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bob-marley-burn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989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00000ADG2"/>
          <p:cNvPicPr/>
          <p:nvPr/>
        </p:nvPicPr>
        <p:blipFill>
          <a:blip r:embed="rId3"/>
          <a:stretch/>
        </p:blipFill>
        <p:spPr>
          <a:xfrm>
            <a:off x="4859280" y="18511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2:54:33Z</dcterms:created>
  <dc:creator>HP registered user</dc:creator>
  <dc:description/>
  <dc:language>en-US</dc:language>
  <cp:lastModifiedBy>Permaul, Pravin</cp:lastModifiedBy>
  <dcterms:modified xsi:type="dcterms:W3CDTF">2013-05-15T12:02:32Z</dcterms:modified>
  <cp:revision>24</cp:revision>
  <dc:subject/>
  <dc:title>Critical Theory  Postmodernism.</dc:title>
</cp:coreProperties>
</file>